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94E-39A6-46D1-8D3A-9E12BB43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AF1-CD69-4D5D-A47B-B357DA5A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2DE-1E9E-463C-A3D7-848E2980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EB0-682F-41F1-A00D-6A3BB890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E76-0C78-4878-8635-D29E645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078-3C70-4083-9B0F-9A01249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2B9-E252-4005-ACAF-4E8FADB4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08B-4917-48EA-9763-C4C0399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6E9-425B-4AF2-923C-00B41796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6BC-A49B-46D9-904C-AF6C5E3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68C-116C-4EAE-8C6B-66731A9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4EF-3A2A-404E-82D1-76A184C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CD6-553F-4223-88B7-865974248EF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5000"/>
            <a:ext cx="754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t is mondhatnék?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Te vagy, ki megváltottál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rága véreddel hófehérre mostál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em lettél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Tiéd az egész lényem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g a tűz benn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sak érted élek már.</a:t>
            </a:r>
            <a:br>
              <a:rPr sz="4400"/>
            </a:b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549360"/>
            <a:ext cx="792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(Érted élek minden nap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(Érted élek minden na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(Érted élek minden nap, Uram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476280"/>
            <a:ext cx="7921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, Uram, ráállok Igédre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s Téged hívlak, légy a segítség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Vezess hát engem tovább a keskeny úton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d, hogy élet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világban tüzet gyújtso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13880" y="765000"/>
            <a:ext cx="7719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765000"/>
            <a:ext cx="754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t is mondhatnék?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Te vagy, ki megváltottál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Drága véreddel hófehérre mostál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em lettél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Tiéd az egész lényem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g a tűz benn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sak érted élek már.</a:t>
            </a:r>
            <a:br>
              <a:rPr sz="4400"/>
            </a:br>
            <a:br>
              <a:rPr sz="1800"/>
            </a:b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476280"/>
            <a:ext cx="7921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, Uram, ráállok Igédre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s Téged hívlak, légy a segítség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Vezess hát engem tovább a keskeny úton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dd, hogy életem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világban tüzet gyújtso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13880" y="765000"/>
            <a:ext cx="7719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0320" y="1566720"/>
            <a:ext cx="736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 Ura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30320" y="1566720"/>
            <a:ext cx="736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Érted élek minden nap Ura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13880" y="1665360"/>
            <a:ext cx="7719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csak érted élek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követlek Téged,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Minden nap Veled járok Uram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47:51Z</dcterms:created>
  <dc:creator>Károlyi János</dc:creator>
  <dc:description/>
  <dc:language>en-US</dc:language>
  <cp:lastModifiedBy>Balázs</cp:lastModifiedBy>
  <dcterms:modified xsi:type="dcterms:W3CDTF">2008-01-25T10:22:50Z</dcterms:modified>
  <cp:revision>9</cp:revision>
  <dc:subject/>
  <dc:title>Minden nap     Mit is mondhatnék Te vagy, ki megváltottál Drága véreddel hófehérre mostál Mindenem lettél Tiéd az egész lényem Ég a tűz bennem csak érted élek már  Minden nap, Uram, ráállok Igédre És Téged hívlak, légy a segítségem Vezess hát engem tovább a keskeny úton Add, hogy életem A világban tüzet gyújtson  Minden nap csak érted élek Minden nap követlek Téged Minden nap Veled járok Uram Érted élek minden nap </dc:title>
</cp:coreProperties>
</file>